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E90-8698-48E9-8608-DB4A619C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3DD-743F-4FCE-AEB4-72B0796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EC6-848B-47FF-BAA7-A4C1735E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009-BB00-40F2-8E0A-E8D0F6C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09E-8B68-4DF8-BD7B-BD72E85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2D4-DCB2-4DA1-8088-B5C28E3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3BB-9901-4FF3-AFDC-233A823A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DBE-E9FE-47BF-BDC9-786A58C5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1C0-4976-4494-A0A0-3DB781A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E45-25D8-4D97-82F8-9A56C6B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E01-6C9D-4CEB-9AC3-3EFBBEE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7D5-77B2-44D8-9327-D3FA620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EB4-AB68-4DD5-9E84-218FAAD0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ensguide.gpo.gov/3-5/state/index.html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bensguide.gpo.gov/3-5/state/index.html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1129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c98f"/>
            </a:gs>
            <a:gs pos="100000">
              <a:srgbClr val="3939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457200"/>
            <a:ext cx="822960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393939"/>
                    </a:gs>
                  </a:gsLst>
                  <a:lin ang="5400000"/>
                </a:gradFill>
                <a:latin typeface="Arial Black"/>
              </a:rPr>
              <a:t>Pennsylva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39393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219320"/>
            <a:ext cx="4038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1000" y="861840"/>
            <a:ext cx="2746440" cy="149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48520" y="2735280"/>
            <a:ext cx="144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533520"/>
            <a:ext cx="175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nnsylvania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0/7/10 www.50states.com/Pennsylvani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Pennsyl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apitol: Harri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12,281,0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union: Dec, 12 17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virtue, liberty,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keysto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ruffed gr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Pennsyl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named after William Pe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ennsylvania: Map and State Flag"/>
          <p:cNvPicPr/>
          <p:nvPr/>
        </p:nvPicPr>
        <p:blipFill>
          <a:blip r:embed="rId1"/>
          <a:srcRect l="0" t="50974" r="0" b="0"/>
          <a:stretch/>
        </p:blipFill>
        <p:spPr>
          <a:xfrm>
            <a:off x="0" y="4989600"/>
            <a:ext cx="6095880" cy="186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28736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66880"/>
            <a:ext cx="4800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 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Pennsylv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index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© 1999 WriteLine. Pennsylvania flag"/>
          <p:cNvPicPr/>
          <p:nvPr/>
        </p:nvPicPr>
        <p:blipFill>
          <a:blip r:embed="rId3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511812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 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Pennsylv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419720"/>
            <a:ext cx="373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 of Pennsyl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200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sylvania's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0" dur="123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1" dur="123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3" dur="123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39c98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 Harrisburg PA Capitol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340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2860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Pennsylvani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Harrisbur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129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562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autiful state capitol of Pennsylv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1:58Z</dcterms:created>
  <dc:creator>install</dc:creator>
  <dc:description/>
  <dc:language>en-US</dc:language>
  <cp:lastModifiedBy>install</cp:lastModifiedBy>
  <dcterms:modified xsi:type="dcterms:W3CDTF">2010-10-14T13:19:53Z</dcterms:modified>
  <cp:revision>13</cp:revision>
  <dc:subject/>
  <dc:title>Slide 1</dc:title>
</cp:coreProperties>
</file>